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FFB-709E-4361-8651-0A389590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033-7ADF-4387-9317-92CE5A33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54C-26AA-4D18-9CDB-A4F57004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3B2-09FA-495C-BF19-5F63CD6F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2A17-D858-43A1-9257-FA880583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880A-0535-4F12-8075-6409A6A6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6866-5798-491C-9FDB-0E92F703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21E7-D9E0-47A7-8AC7-3E6E60C1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79BD-0BF9-4628-95D9-8B4BA874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CEA9-AA38-4026-9C58-2AC930E5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BF67-9468-4F03-8436-494C9547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96D-42E3-4240-B397-8A3EC355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BCCF-CBC9-4D08-8F41-AAE6E445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D051-71DC-4668-BAAD-A74721F0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DD69-0E8E-49C6-AB49-D8248D8D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C51D-1E9D-4EC0-A95A-8D15313B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34AA-073F-414A-BED4-AB7F7CA3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92C-F32C-4278-A763-DEEE94C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5B1-40AC-4485-B6DF-72356A9E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F4D-077F-4899-AA1A-D82CE0D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38E3-6B0B-4859-9D07-B976C8D7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61E-D590-4C29-BB7A-553145CA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C4F-C0F2-49E0-88DC-5F062DD1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A11-9623-4A83-BEF5-0A5F7B6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F476-D9B7-4F21-BD08-C137069103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B4F-9C3B-41A5-8E62-8CECF2BEFDE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mericanrhetoric.com/speeches/fdrpearlharbor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rBWWZ-ZEydc&amp;feature=related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The Attack on Pearl Harbor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87" name="Picture 5" descr="pearl harbor 1"/>
          <p:cNvPicPr/>
          <p:nvPr/>
        </p:nvPicPr>
        <p:blipFill>
          <a:blip r:embed="rId1"/>
          <a:stretch/>
        </p:blipFill>
        <p:spPr>
          <a:xfrm>
            <a:off x="1752480" y="2286000"/>
            <a:ext cx="5486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pearl-harbor-uss-virginia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3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uss arizona's forward magazines explode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4c6d80"/>
                </a:solidFill>
                <a:uFillTx/>
                <a:latin typeface="Garamond"/>
                <a:hlinkClick r:id="rId1"/>
              </a:rPr>
              <a:t>A Day Which Will Live in Infamy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09" name="Picture 4" descr="fdr_congress"/>
          <p:cNvPicPr/>
          <p:nvPr/>
        </p:nvPicPr>
        <p:blipFill>
          <a:blip r:embed="rId2"/>
          <a:stretch/>
        </p:blipFill>
        <p:spPr>
          <a:xfrm>
            <a:off x="2057400" y="1143000"/>
            <a:ext cx="5229360" cy="5410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merica Declares War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FDR’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se declares war: 388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ate joins unanimous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41129DecofWarJapan"/>
          <p:cNvPicPr/>
          <p:nvPr/>
        </p:nvPicPr>
        <p:blipFill>
          <a:blip r:embed="rId1"/>
          <a:stretch/>
        </p:blipFill>
        <p:spPr>
          <a:xfrm>
            <a:off x="1828800" y="2658960"/>
            <a:ext cx="6892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America Joins the War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 and Italy declare war on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partite P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11212DecofWarGerItal"/>
          <p:cNvPicPr/>
          <p:nvPr/>
        </p:nvPicPr>
        <p:blipFill>
          <a:blip r:embed="rId1"/>
          <a:stretch/>
        </p:blipFill>
        <p:spPr>
          <a:xfrm>
            <a:off x="2133720" y="2514600"/>
            <a:ext cx="67816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What was the relationship between the United States and Japan prior to 1941?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supplies Japan with much-needed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crap metal"/>
          <p:cNvPicPr/>
          <p:nvPr/>
        </p:nvPicPr>
        <p:blipFill>
          <a:blip r:embed="rId1"/>
          <a:stretch/>
        </p:blipFill>
        <p:spPr>
          <a:xfrm>
            <a:off x="5410080" y="1600200"/>
            <a:ext cx="299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Garamond"/>
              </a:rPr>
              <a:t>What events lead up to Japan’s attack on the United States? </a:t>
            </a:r>
            <a:endParaRPr b="0" lang="en-US" sz="38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Embarg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panese expansion in Ch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DR tries to st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al or complete prohibition of commerce and trade with a particular country, in order to isolate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val and aviator supp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il, iron ore, fuel, steel, rub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Tripartite Pact 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xis P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ssist one another with all political, economic and military means when one of the three contracting powers is attacked…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xtensive embarg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1938_Naka_yoshi_sangoku"/>
          <p:cNvPicPr/>
          <p:nvPr/>
        </p:nvPicPr>
        <p:blipFill>
          <a:blip r:embed="rId1"/>
          <a:stretch/>
        </p:blipFill>
        <p:spPr>
          <a:xfrm>
            <a:off x="4876920" y="533520"/>
            <a:ext cx="383832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Hideki Tojo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41: Japanese Prime Minis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itary expansion—keep U.S. neut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mpted negotiations fai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rejects Japan’s de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ideki tojo"/>
          <p:cNvPicPr/>
          <p:nvPr/>
        </p:nvPicPr>
        <p:blipFill>
          <a:blip r:embed="rId1"/>
          <a:stretch/>
        </p:blipFill>
        <p:spPr>
          <a:xfrm>
            <a:off x="5029200" y="1066680"/>
            <a:ext cx="3700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December 7, 1941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01" name="Picture 4" descr="300px-Attack_on_Pearl_Harbor_Japanese_planes_view"/>
          <p:cNvPicPr/>
          <p:nvPr/>
        </p:nvPicPr>
        <p:blipFill>
          <a:blip r:embed="rId1"/>
          <a:stretch/>
        </p:blipFill>
        <p:spPr>
          <a:xfrm>
            <a:off x="2133720" y="990720"/>
            <a:ext cx="4952880" cy="35319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4572000"/>
            <a:ext cx="82296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pan focuses on Pearl Har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dicate American naval and air presence in the Paci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 American resistance to Japanese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240320" y="41148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Day of Infam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japanese torpedo attack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PearlHarbor04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2:05:06Z</dcterms:created>
  <dc:creator>Owner</dc:creator>
  <dc:description/>
  <dc:language>en-US</dc:language>
  <cp:lastModifiedBy>hberndt</cp:lastModifiedBy>
  <dcterms:modified xsi:type="dcterms:W3CDTF">2010-03-24T13:31:18Z</dcterms:modified>
  <cp:revision>8</cp:revision>
  <dc:subject/>
  <dc:title>The Attack on Pearl Harbor</dc:title>
</cp:coreProperties>
</file>